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34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670C-0753-4669-A310-904819676569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CAF9-08FF-4F7A-8B89-AD4ABE7151A2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423C-1ADA-4DDF-B3ED-57499C1E115B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0D4F-D823-4567-9485-1EB91834FEF9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6216-63E2-47B0-97A5-889385FF278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9BC5-E913-4C9C-BE9E-4723BA9BBC7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FAD2-12C6-4C6B-9B71-0A47F2E090A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2305-ED0F-4B87-AA3E-A95F789C12E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6255-B4B4-4FC2-AAD9-8613E3100EAC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4CF5-4718-4CCA-A6FB-53C24E4FB8B2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FCFB-63B8-4F85-B66C-B1F70EFBF2F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9AEE-C031-4133-B756-E8B32AA80FAE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A293-A9FF-4990-A95D-87427307853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1514-2DCB-4921-9BA7-34B0BA816223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1D0F-ED29-420B-8D97-E1CC527711B9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E1E1-EEAD-465B-B6AA-DD48DE53D959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89E5-FAB2-4D5E-9986-CB3A6297889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D691-9A03-42BA-AA23-549E7A043D5C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17DA-AA83-445A-8B44-8E7D15D904E3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B1DD-53C3-496B-9555-18E6C29BC59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EFD4-D6D5-45E9-8AE3-262AA74056B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83CB-4147-44C0-BAD8-F3F7656C9658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A922-643F-4BA0-A5F5-0603E64104BD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3ADC-D6AF-4AEF-A8E2-FA0C91923057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EE40-851B-4577-A5EA-22F5C86AB5C5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7CA7-FBF3-40BD-B724-B536CF6B72F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ECEE-938F-42D7-88CD-2DD9C38E3D6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52E5-2A0F-4877-9F32-215C3E8C045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A1AB-9D80-49D8-AD5B-5F8793C7A1A8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0D6B-4274-46B0-964C-C24B1F2D4211}" type="slidenum"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691A-68A0-4B28-AE43-6175A273F23A}" type="slidenum"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he Atlantic cable, promoted by American entrepreneur, Cyrus Field (1819-1892), was a major Anglo-American enterprise that led to closer relations between Britain and the United States. Between 1857 and 1866 five expeditions attempted to span the Atlantic with a cable. A cable was successfully laid in 1858, but operated for only a month. Efforts were resumed after the American Civil War and in 1866 success was achieved; Field rejoiced that it was like "clasping hands across the sea."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7363-9715-4AC0-9977-E18F6F359BC9}" type="slidenum"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2630-4B6C-4C8D-A88E-5F67D700FD4E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9383-CDCD-446B-8C0C-120C41F47580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B79F-1AE9-41ED-975D-4DA724148519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0DBB-C2B4-4DAE-955E-928A5F9A0B29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0B29-E478-4094-976C-D1C046668252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9433-9D34-4E3A-AE6A-7D640547F93B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D1F0-E21C-41E7-901F-DE6F9ABB6C0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03E3-E966-4A84-9923-ADC6A3984A30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508-6D4E-44D7-9553-D5625503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20C-D290-42E4-B129-13809236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BFD-1237-4D1E-82D4-7E9019A7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018-65AE-486A-B8E3-3CD81C70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8D58-E6F9-4E31-AE52-0FA34548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0DE5-9B98-4F52-8AB1-F6AC68CA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9AD3-33A7-43CE-B614-E34C2E83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FEF3-CBE0-4B33-A4B3-87649D82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1F79-2914-45A6-A66A-9981FFBD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D779-F0E7-41CA-A3CF-55F6E5F4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1540-AA76-4F13-85E2-285CAEAF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CE7-B1AC-4F1A-9C7E-03D8D3C7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4C7C-B95E-48C5-898A-3D97CF20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092A-8E90-4294-BF46-CFB24220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080F-F76A-49A1-AC07-2A4E34F6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28F9-6761-48DE-A9B9-E96E3178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2F11-976D-4012-A28C-B9513499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ED8E8-1304-4474-8F5C-48E41DF7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41956-8782-48CD-B4AD-E60AE56D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947D2-5CE6-449F-B91F-E8D74A01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A7B32-85F0-4D10-BB13-2786F928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3E089-295D-49E0-B9C3-850FDACE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B19-E7F7-451C-90EA-CF672AFF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3E10E-F9BC-4366-A76C-20FE84A9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273C5-AEC8-4C37-A97E-66D79BA4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ED666-0FFD-430D-95C7-1DDC31C4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15259-57EF-41F5-ACCE-5B5FE566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E7604-F5BB-40C3-B4A6-21C7181F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A9CCD-32F8-4095-AC82-B93B9C56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03A9B-789F-41EE-A836-63BB39E2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A973A-8E99-4323-82AB-EBB236FF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E7941-4C29-49B7-B3C7-174C10AF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4EC4B-F3CE-421B-94B9-7EA61518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E28-AE66-44C0-80BC-39F0C451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0073A-7E74-40DA-8EFC-F28ECE4A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90234-87ED-46F9-B0CD-5194BDCA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301BB-B713-45CC-91DC-26ED7C7F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BB017-A73B-4DEE-99A6-87CC7627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19850-A4F1-41F5-A6DD-FC9ABB15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67458-8BDB-4079-BA03-47CABD78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23FE1-3F34-4CA5-AE83-19C2E97D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462C5-5BA7-4FBB-837E-CA31B043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B664E-4ABF-4037-B651-4F833246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D36-48BE-43C3-BBBE-C6EC6C2E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81F9-2F47-494E-BAA5-D2C6BA3A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7FF-E60F-4162-86DC-0AAFFFB1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5A1-3644-44D4-B660-376EFC1E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7A4-EAE8-42B9-9515-2EE1B249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0582-E363-4E68-848D-0D512DA9F2BB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직사각형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직사각형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직사각형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모서리가 둥근 직사각형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모서리가 둥근 직사각형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직사각형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직사각형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직사각형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직사각형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CCC2-DB0F-4BE6-A036-812598402E43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09F3-8CB5-4091-823D-D68EBFB8D1D6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F4BB-FAA2-4933-91B9-8BE33F362E59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.kr/imgres?imgurl=http://www.solarnavigator.net/inventors/inventor_images/Francis_Bacon.jpg&amp;imgrefurl=http://www.solarnavigator.net/inventors/francis_bacon.htm&amp;h=474&amp;w=436&amp;sz=28&amp;hl=ko&amp;start=6&amp;sig2=-9LzPpQq66CPVXntUSKF9Q&amp;um=1&amp;tbnid=bgcBRoAwM3PdAM:&amp;tbnh=129&amp;tbnw=119&amp;ei=dlo-R5HIK4ScggPB5onfCA&amp;prev=/images?q=francis+bacon&amp;svnum=10&amp;um=1&amp;complete=1&amp;hl=ko&amp;lr=&amp;newwindow=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memory.loc.gov/mss/magbell/253/25300201/0022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과학과 기술의 관계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현대 기술과 공학의 철학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5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주차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8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학의 방법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s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공학의 방법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적 모형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공학적 모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설적으로 설명하고 예측하기 위한 이론적 모형</a:t>
            </a:r>
            <a:br>
              <a:rPr sz="2600"/>
            </a:b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실제 대상과 환경을 모방한 스케일 모형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적 실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공학적 실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새로운 현상 관찰 또는 이론 입증 실험</a:t>
            </a:r>
            <a:br>
              <a:rPr sz="2600"/>
            </a:b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다양한 변수에 따른 결과 변화 관찰 실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전형적인 과학의 모형의 예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원자모형의 변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각각의 모형은 특별한 현상에 대한 설명을 위한 구성을 갖추고 있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1" name="Picture 2" descr="http://user.chollian.net/~cjhdosa/atommodel.jpg"/>
          <p:cNvPicPr/>
          <p:nvPr/>
        </p:nvPicPr>
        <p:blipFill>
          <a:blip r:embed="rId1"/>
          <a:stretch/>
        </p:blipFill>
        <p:spPr>
          <a:xfrm>
            <a:off x="900000" y="2924280"/>
            <a:ext cx="75549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4788000" y="3500280"/>
            <a:ext cx="33843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Georgia"/>
              </a:rPr>
              <a:t>전형적인 </a:t>
            </a:r>
            <a:br>
              <a:rPr sz="2800"/>
            </a:br>
            <a:r>
              <a:rPr b="1" lang="ko-KR" sz="2800" spc="-1" strike="noStrike">
                <a:solidFill>
                  <a:srgbClr val="000000"/>
                </a:solidFill>
                <a:latin typeface="Georgia"/>
              </a:rPr>
              <a:t>공학적 모형과 실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이론에 대한 입증 실험이 아님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날개 각이 다른 비행기 모형의 속력에 따른 항력 증가 추이 그래프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4186080" cy="432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http://www.aerospaceweb.org/question/aerodynamics/lift/lift-tat.gif"/>
          <p:cNvPicPr/>
          <p:nvPr/>
        </p:nvPicPr>
        <p:blipFill>
          <a:blip r:embed="rId2"/>
          <a:stretch/>
        </p:blipFill>
        <p:spPr>
          <a:xfrm>
            <a:off x="395280" y="3573360"/>
            <a:ext cx="4286160" cy="2905200"/>
          </a:xfrm>
          <a:prstGeom prst="rect">
            <a:avLst/>
          </a:prstGeom>
          <a:ln w="0">
            <a:noFill/>
          </a:ln>
        </p:spPr>
      </p:pic>
      <p:pic>
        <p:nvPicPr>
          <p:cNvPr id="256" name="내용 개체 틀 5" descr="WindTunnel.jpg"/>
          <p:cNvPicPr/>
          <p:nvPr/>
        </p:nvPicPr>
        <p:blipFill>
          <a:blip r:embed="rId3"/>
          <a:stretch/>
        </p:blipFill>
        <p:spPr>
          <a:xfrm>
            <a:off x="539640" y="620640"/>
            <a:ext cx="7620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형 및 실험을 통해 얻어진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디자인 지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9" name="Picture 2" descr="http://www.allstar.fiu.edu/aero/images/fig18.gif"/>
          <p:cNvPicPr/>
          <p:nvPr/>
        </p:nvPicPr>
        <p:blipFill>
          <a:blip r:embed="rId1"/>
          <a:stretch/>
        </p:blipFill>
        <p:spPr>
          <a:xfrm>
            <a:off x="5508720" y="728640"/>
            <a:ext cx="343044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즉 다른 목적을 위한 지식은 다른 내용과 형태를 가지며 다른 방식으로 얻어진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러나 현대로 올수록 밀접해지는 과학과 기술의 관계는 어떻게 설명할 것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고대의 엄격히 구분된 두 영역이 점차 혼합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앞부분의 과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구분표는 고대에 더 어울림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대상의 혼합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5338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데카르트의 새로운 자연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기계로서의 자연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amp; 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자연의 연장으로서의 인공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자연물도 기계적으로 설명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amp; 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기계에도 자연법칙 작동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6" descr="Image:Descartes.jpg"/>
          <p:cNvPicPr/>
          <p:nvPr/>
        </p:nvPicPr>
        <p:blipFill>
          <a:blip r:embed="rId1"/>
          <a:stretch/>
        </p:blipFill>
        <p:spPr>
          <a:xfrm>
            <a:off x="6135840" y="2349360"/>
            <a:ext cx="23605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인간이 만든 기계와 자연적으로 만들어진 기계 사이에는 차이점이 없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물리학이 적용되지 않는 기계장치란 없으며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기계장치는 물리학의 한 부분이나 특별한 상황을 형성하고 있음에 틀림없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(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따라서 모든 인위적인 것은 또한 자연적인 것이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)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즉 시간을 알려주기 위해 필요한 수의 톱니바퀴들로 구성된 시계는 어떤 씨앗이 자라 과일 나무로 성장하는 것과 마찬가지로 자연적이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데카르트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Scan0018"/>
          <p:cNvPicPr/>
          <p:nvPr/>
        </p:nvPicPr>
        <p:blipFill>
          <a:blip r:embed="rId2"/>
          <a:stretch/>
        </p:blipFill>
        <p:spPr>
          <a:xfrm>
            <a:off x="250920" y="1773360"/>
            <a:ext cx="4105080" cy="3565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Borelli"/>
          <p:cNvPicPr/>
          <p:nvPr/>
        </p:nvPicPr>
        <p:blipFill>
          <a:blip r:embed="rId3"/>
          <a:stretch/>
        </p:blipFill>
        <p:spPr>
          <a:xfrm>
            <a:off x="4716360" y="981000"/>
            <a:ext cx="4113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목적과 방법의 혼합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249640"/>
            <a:ext cx="5554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베이컨의 새로운 과학철학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참된 과학은 실제 세상에서도 유용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진리와 효용은 하나다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과학과 기술의 목적을 통합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이러한 과학을 얻기 위해 자연을 조작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실험적 방법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”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의 도입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과학적 도구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”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의 사용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조작적 지식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”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의 생산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73" name="Picture 4" descr="Francis_Bac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00760" y="2205000"/>
            <a:ext cx="2655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4941720"/>
            <a:ext cx="36831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로버트 보일과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의 공기펌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6" name="Picture 2" descr="rboyle"/>
          <p:cNvPicPr/>
          <p:nvPr/>
        </p:nvPicPr>
        <p:blipFill>
          <a:blip r:embed="rId1"/>
          <a:stretch/>
        </p:blipFill>
        <p:spPr>
          <a:xfrm>
            <a:off x="539640" y="1052640"/>
            <a:ext cx="3384720" cy="3786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Air_Pump"/>
          <p:cNvPicPr/>
          <p:nvPr/>
        </p:nvPicPr>
        <p:blipFill>
          <a:blip r:embed="rId2"/>
          <a:stretch/>
        </p:blipFill>
        <p:spPr>
          <a:xfrm>
            <a:off x="4211640" y="1197000"/>
            <a:ext cx="45007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은 과학과 상이한 활동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11280" y="2421000"/>
          <a:ext cx="7200720" cy="2595600"/>
        </p:xfrm>
        <a:graphic>
          <a:graphicData uri="http://schemas.openxmlformats.org/drawingml/2006/table">
            <a:tbl>
              <a:tblPr/>
              <a:tblGrid>
                <a:gridCol w="992160"/>
                <a:gridCol w="2560680"/>
                <a:gridCol w="3647880"/>
              </a:tblGrid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과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기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실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지식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이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실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응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대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자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인공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동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지적 호기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실질적 유용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목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설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예측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)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과 이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디자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발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개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생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25" name="TextBox 4"/>
          <p:cNvSpPr/>
          <p:nvPr/>
        </p:nvSpPr>
        <p:spPr>
          <a:xfrm>
            <a:off x="611280" y="5229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과학과 기술은 동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목적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대상이 다른 서로 구분되는 활동으로서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과학자와 기술자 사회 역시 상이한 가치체계를 가진 상이한 집단이다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1412640" y="6093000"/>
            <a:ext cx="31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Georgia"/>
              </a:rPr>
              <a:t>이것만으로 응용과학 테제 손쉽게 비판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</a:rPr>
              <a:t>가능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An_Experiment_on_a_Bird_in_an_Air_Pump_by_Joseph_Wright_of_Derby%2C_1768"/>
          <p:cNvPicPr/>
          <p:nvPr/>
        </p:nvPicPr>
        <p:blipFill>
          <a:blip r:embed="rId2"/>
          <a:stretch/>
        </p:blipFill>
        <p:spPr>
          <a:xfrm>
            <a:off x="0" y="122400"/>
            <a:ext cx="914400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베이컨이 추동한 변화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27628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실험과 도구의 역할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과학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도구 </a:t>
            </a:r>
            <a:r>
              <a:rPr b="0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자연에 개입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실험실에서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의 자연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”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창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예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보일의 진공펌프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진공이 자연에 존재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기술 </a:t>
            </a:r>
            <a:r>
              <a:rPr b="0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도구 </a:t>
            </a:r>
            <a:r>
              <a:rPr b="0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과학에 침투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과학과 기술의 한 가지 중요한 접점이 형성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베이컨의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진리와 효용은 하나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라는 명제의 역할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높은 효용은 과학적 참의 증거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&amp; </a:t>
            </a:r>
            <a:br>
              <a:rPr sz="2600"/>
            </a:b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참은 높은 효용을 낼 수 있는 것으로 응용 가능 천명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과학자의 실험실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? 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엔지니어의 작업장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4" name="Picture 7" descr="collider"/>
          <p:cNvPicPr/>
          <p:nvPr/>
        </p:nvPicPr>
        <p:blipFill>
          <a:blip r:embed="rId1"/>
          <a:stretch/>
        </p:blipFill>
        <p:spPr>
          <a:xfrm>
            <a:off x="611280" y="2276640"/>
            <a:ext cx="5143320" cy="38890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5940360" y="3068640"/>
            <a:ext cx="25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Georgia"/>
              </a:rPr>
              <a:t>강입자 가속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가운데 보이는 터널 구멍으로 양성자가 빛의 속도로 달리며 다른 양성자와 충돌해 빅뱅 후 초기 우주의 모습을 재현한다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실천으로서의 과학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자연에 개입하여 새로운 현상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효과 창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새로운 현상과 효과는 유용한 인공물로 변환 가능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실험에도 숙련과 같은 암묵적 지식 존재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기계의 성능이나 효율을 높이는 일은 과학의 일상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전자기 효과 발견 이후 그 효과를 증폭시키는 노력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철심과 절연된 코일 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이유는 모르지만 증폭 효과 있음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그 노력은 다시 전자기 유도의 발견에 핵심적 역할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증폭된 효과 덕에 미미한 전자기 유도 현상 발견 가능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한번 얻은 실험 결과를 안정화시키는 일도 중요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실험 결과를 어떻게 하면 얻을 수 있는지에 대한 </a:t>
            </a:r>
            <a:br>
              <a:rPr sz="2400"/>
            </a:b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실험 절차와 각종 조작적 규칙을 명세할 수 있어야</a:t>
            </a:r>
            <a:br>
              <a:rPr sz="2400"/>
            </a:br>
            <a:r>
              <a:rPr b="0" lang="en-US" sz="24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일반화 되면 과학 법칙인 동시에 기술적 규칙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학과 기술의 다양한 접점 형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과학의 이론을 기술이 응용한다는 단순한 관계를 넘어서는 모습 형성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경계물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새로운 효과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도구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조작적 이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전자기 회전 </a:t>
            </a:r>
            <a:r>
              <a:rPr b="0" lang="en-US" sz="24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모터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전화기 </a:t>
            </a:r>
            <a:r>
              <a:rPr b="0" lang="ko-KR" sz="24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미세 전류 측정기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과학 법칙과 기술의 조작적 규칙은 때때로 상호 변환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경계 공간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대학과 기업의 연구소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거대 프로젝트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핵폭탄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컴퓨터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반도체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레이저의 개발 또는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우주배경복사의 발견 등은 한곳에 모인 과학자와 엔지니어의 상호작용 및 협동의 결과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경계인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실천적 능력을 갖춘 과학자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이론적 능력을 갖춘 기술자에 의한 과학과 기술의 매개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반적인 역사적 경향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Georgia"/>
              </a:rPr>
              <a:t>과학과 기술의 관계는 점차 밀접해지고 있음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Georgia"/>
              </a:rPr>
              <a:t>정부의 응용과학에 대한 믿음과 공적 지원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Georgia"/>
              </a:rPr>
              <a:t>거대과학 </a:t>
            </a: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900" spc="-1" strike="noStrike">
                <a:solidFill>
                  <a:srgbClr val="000000"/>
                </a:solidFill>
                <a:latin typeface="Georgia"/>
              </a:rPr>
              <a:t>엔지니어와 과학자들의 총집합소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Georgia"/>
              </a:rPr>
              <a:t>그럼에도 여전한 간극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기술은 과학보다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시장의 요구에 상대적으로 민감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기술의 대상은 과학의 대상보다 대체로 복잡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03600" indent="-21420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잘 몰라도 실제로 작동시키는 것이 일단 중요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엔지니어도 과학을 배우지만 꼭 최신 이론일 필요 없음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03600" indent="-21420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우주선 보내는 데 양자역학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상대성이론까지 필요치는 않음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하나의 진리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다양한 디자인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과학의 응용이란 어떻게 이루어지는가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49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적 효과 및 도구에 대한 기술적 번역에서 시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신호 전달 장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즉 전신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스위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송신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검류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=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수신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94" name="Picture 2" descr="http://user.chol.com/~duduji/dreamwiz/Electric/images/NMKTT003.GIF"/>
          <p:cNvPicPr/>
          <p:nvPr/>
        </p:nvPicPr>
        <p:blipFill>
          <a:blip r:embed="rId1"/>
          <a:stretch/>
        </p:blipFill>
        <p:spPr>
          <a:xfrm>
            <a:off x="1403280" y="2852640"/>
            <a:ext cx="496908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신의 발명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&amp;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개발 과정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번역에 의한 새로운 기술의 정의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전신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=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전기회로를 이용한 신호 전달 장치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쿠크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모스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실용화 위한 기술적 문제의 풀이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장거리 송전의 신호 감쇠 문제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부하의 임피던스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일종의 저항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증가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휘트스톤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전지의 직렬 연결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헨리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휘트스톤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수신 증폭기 및 계전기 개발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헨리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효율적인 부호 체계 및 가시화 장치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바늘 장치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쿠크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&amp;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휘트스톤 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@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영국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모스 부호 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&amp;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프린터 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or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사운더 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모스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&amp;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베일 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@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미국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실용화 위한 사회적 문제의 풀이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수요의 확보 문제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초기 철도와 언론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점점 용도 확장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morse_electric_circuit_1"/>
          <p:cNvPicPr/>
          <p:nvPr/>
        </p:nvPicPr>
        <p:blipFill>
          <a:blip r:embed="rId2"/>
          <a:stretch/>
        </p:blipFill>
        <p:spPr>
          <a:xfrm>
            <a:off x="755640" y="765000"/>
            <a:ext cx="7201080" cy="2735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circuito_morse_2"/>
          <p:cNvPicPr/>
          <p:nvPr/>
        </p:nvPicPr>
        <p:blipFill>
          <a:blip r:embed="rId3"/>
          <a:stretch/>
        </p:blipFill>
        <p:spPr>
          <a:xfrm>
            <a:off x="755640" y="3718080"/>
            <a:ext cx="7201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cooke_telegraph2"/>
          <p:cNvPicPr/>
          <p:nvPr/>
        </p:nvPicPr>
        <p:blipFill>
          <a:blip r:embed="rId2"/>
          <a:stretch/>
        </p:blipFill>
        <p:spPr>
          <a:xfrm>
            <a:off x="3564000" y="1484280"/>
            <a:ext cx="2400120" cy="3313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cooke_telegraph1"/>
          <p:cNvPicPr/>
          <p:nvPr/>
        </p:nvPicPr>
        <p:blipFill>
          <a:blip r:embed="rId3"/>
          <a:stretch/>
        </p:blipFill>
        <p:spPr>
          <a:xfrm>
            <a:off x="611280" y="1484280"/>
            <a:ext cx="2593800" cy="3457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Five-Needle-Telegraph-Letter"/>
          <p:cNvPicPr/>
          <p:nvPr/>
        </p:nvPicPr>
        <p:blipFill>
          <a:blip r:embed="rId4"/>
          <a:stretch/>
        </p:blipFill>
        <p:spPr>
          <a:xfrm>
            <a:off x="611280" y="4724280"/>
            <a:ext cx="6243480" cy="1878120"/>
          </a:xfrm>
          <a:prstGeom prst="rect">
            <a:avLst/>
          </a:prstGeom>
          <a:ln w="0">
            <a:noFill/>
          </a:ln>
        </p:spPr>
      </p:pic>
      <p:sp>
        <p:nvSpPr>
          <p:cNvPr id="306" name="Line 8"/>
          <p:cNvSpPr/>
          <p:nvPr/>
        </p:nvSpPr>
        <p:spPr>
          <a:xfrm>
            <a:off x="4067280" y="2997360"/>
            <a:ext cx="21744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5148000" y="2997360"/>
            <a:ext cx="21420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5148360" y="2997360"/>
            <a:ext cx="21744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Line 11"/>
          <p:cNvSpPr/>
          <p:nvPr/>
        </p:nvSpPr>
        <p:spPr>
          <a:xfrm flipH="1">
            <a:off x="4066920" y="2997360"/>
            <a:ext cx="21420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Line 12"/>
          <p:cNvSpPr/>
          <p:nvPr/>
        </p:nvSpPr>
        <p:spPr>
          <a:xfrm flipH="1">
            <a:off x="4427280" y="2997360"/>
            <a:ext cx="21420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직사각형 11"/>
          <p:cNvSpPr/>
          <p:nvPr/>
        </p:nvSpPr>
        <p:spPr>
          <a:xfrm>
            <a:off x="5940360" y="1413000"/>
            <a:ext cx="251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Georgia"/>
              </a:rPr>
              <a:t>쿠크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</a:rPr>
              <a:t>휘트스톤의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</a:rPr>
              <a:t>바늘 전신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(1837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개의 검류계 사용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작동법 매우 간단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ut 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비용 문제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많은 전선 이용 탓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응용과학 테제에서도 과학과 기술이 다른 목적을 가진다는 것은 인정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다만 과학적 지식을 응용하여 그 목적을 이룬다고 생각할 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780000" y="1267920"/>
            <a:ext cx="4906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Georgia"/>
              </a:rPr>
              <a:t>쿠크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1" lang="ko-KR" sz="2600" spc="-1" strike="noStrike">
                <a:solidFill>
                  <a:srgbClr val="000000"/>
                </a:solidFill>
                <a:latin typeface="Georgia"/>
              </a:rPr>
              <a:t>휘트스톤 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ko-KR" sz="2600" spc="-1" strike="noStrike">
                <a:solidFill>
                  <a:srgbClr val="000000"/>
                </a:solidFill>
                <a:latin typeface="Georgia"/>
              </a:rPr>
              <a:t>바늘 전신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바늘 동작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횟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로 문자 식별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own-Down : A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-D-D : B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-Up : D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U-D-U-D : Y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ondon-Slough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철도 전신선 개통시 도입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1843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이후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-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바늘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사운더로 개량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4" name="Picture 3" descr="Double-NeedleTgr"/>
          <p:cNvPicPr/>
          <p:nvPr/>
        </p:nvPicPr>
        <p:blipFill>
          <a:blip r:embed="rId1"/>
          <a:stretch/>
        </p:blipFill>
        <p:spPr>
          <a:xfrm>
            <a:off x="611280" y="1268280"/>
            <a:ext cx="3240000" cy="3961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Two-Needle-Telegraph-Letter"/>
          <p:cNvPicPr/>
          <p:nvPr/>
        </p:nvPicPr>
        <p:blipFill>
          <a:blip r:embed="rId2"/>
          <a:stretch/>
        </p:blipFill>
        <p:spPr>
          <a:xfrm>
            <a:off x="611280" y="5084640"/>
            <a:ext cx="60166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Morse first telegraph in 1837"/>
          <p:cNvPicPr/>
          <p:nvPr/>
        </p:nvPicPr>
        <p:blipFill>
          <a:blip r:embed="rId2"/>
          <a:stretch/>
        </p:blipFill>
        <p:spPr>
          <a:xfrm>
            <a:off x="468360" y="1484280"/>
            <a:ext cx="2757600" cy="3816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Morse second telegraph receiver in 1844"/>
          <p:cNvPicPr/>
          <p:nvPr/>
        </p:nvPicPr>
        <p:blipFill>
          <a:blip r:embed="rId3"/>
          <a:stretch/>
        </p:blipFill>
        <p:spPr>
          <a:xfrm>
            <a:off x="3564000" y="2133720"/>
            <a:ext cx="4822920" cy="3095640"/>
          </a:xfrm>
          <a:prstGeom prst="rect">
            <a:avLst/>
          </a:prstGeom>
          <a:ln w="0">
            <a:noFill/>
          </a:ln>
        </p:spPr>
      </p:pic>
      <p:sp>
        <p:nvSpPr>
          <p:cNvPr id="320" name="TextBox 5"/>
          <p:cNvSpPr/>
          <p:nvPr/>
        </p:nvSpPr>
        <p:spPr>
          <a:xfrm>
            <a:off x="2269080" y="5661000"/>
            <a:ext cx="42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모스의 첫 번째 전신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1837)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와 두 번째 전신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1844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4292280"/>
            <a:ext cx="822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WHAT HATH GOD WROUGHT”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미국 국회도서관에 보관되어 있는 최초의 공식 모스 전신 전송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워싱턴</a:t>
            </a:r>
            <a:r>
              <a:rPr b="0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볼티모어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, 1844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5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월 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24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일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기록지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엠보싱 리본 종이에 점과 선으로 출력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전송 문구는 특허국장의 딸 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Annie Ellsworth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가 고른 것으로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성경 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23:23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의 구절임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3" name="Picture 5" descr="morse"/>
          <p:cNvPicPr/>
          <p:nvPr/>
        </p:nvPicPr>
        <p:blipFill>
          <a:blip r:embed="rId1"/>
          <a:stretch/>
        </p:blipFill>
        <p:spPr>
          <a:xfrm>
            <a:off x="611280" y="1413000"/>
            <a:ext cx="756108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신의 사용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영국의 경우 철도에서 처음 사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철도 상행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행선 정보 교환용으로 첫 개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1843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845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awell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건 </a:t>
            </a: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언론에서도 전신 이용 시작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후 주식 정보를 원하는 은행이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투자기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정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일반인 등으로 확장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용의 확장에 따른 새로운 욕구 및 요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국제적 송수신 절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프로토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및 모스 부호 표준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다중 전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한 회선을 여럿이 사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해저 전신은 어떻게 가능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일반인은 어떻게 사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awell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사건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(1845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845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일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lough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에서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애인을 살해한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ohn Tawell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이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런던으로 열차를 타고 도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당시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lough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ndon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으로 보낸 전신 문구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murder has just been committed at Salt Hill and the suspected murderer was seen to take a first class ticket to London by the train that left Slough at 7.42pm. He is in the garb of a Kwaker with a brown great coat on which reaches his feet. He is in the last compartment of the second first-class carriage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이 문구를 보내는 데 사용된 전신기가 바로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2-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바늘 전신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런던에서 체포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8" name="Picture 4" descr="tawell1"/>
          <p:cNvPicPr/>
          <p:nvPr/>
        </p:nvPicPr>
        <p:blipFill>
          <a:blip r:embed="rId1"/>
          <a:stretch/>
        </p:blipFill>
        <p:spPr>
          <a:xfrm>
            <a:off x="4884840" y="0"/>
            <a:ext cx="42591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lines"/>
          <p:cNvPicPr/>
          <p:nvPr/>
        </p:nvPicPr>
        <p:blipFill>
          <a:blip r:embed="rId1"/>
          <a:stretch/>
        </p:blipFill>
        <p:spPr>
          <a:xfrm>
            <a:off x="684360" y="528480"/>
            <a:ext cx="7920000" cy="59007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796920" y="6491160"/>
            <a:ext cx="18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913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년의 세계 전신망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eighthwonder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66680"/>
            <a:ext cx="8163000" cy="66913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1258920" y="260280"/>
            <a:ext cx="6192720" cy="459720"/>
          </a:xfrm>
          <a:prstGeom prst="rect">
            <a:avLst/>
          </a:prstGeom>
          <a:solidFill>
            <a:srgbClr val="67af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세계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번째 불가사의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대서양 케이블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6" name="Picture 4" descr="morse_alphabet_1"/>
          <p:cNvPicPr/>
          <p:nvPr/>
        </p:nvPicPr>
        <p:blipFill>
          <a:blip r:embed="rId1"/>
          <a:stretch/>
        </p:blipFill>
        <p:spPr>
          <a:xfrm>
            <a:off x="971640" y="620640"/>
            <a:ext cx="6769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일반인의 전신 사용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aa_carnegie_work_2_m"/>
          <p:cNvPicPr/>
          <p:nvPr/>
        </p:nvPicPr>
        <p:blipFill>
          <a:blip r:embed="rId2"/>
          <a:stretch/>
        </p:blipFill>
        <p:spPr>
          <a:xfrm>
            <a:off x="755640" y="23493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or"/>
          <p:cNvPicPr/>
          <p:nvPr/>
        </p:nvPicPr>
        <p:blipFill>
          <a:blip r:embed="rId3"/>
          <a:stretch/>
        </p:blipFill>
        <p:spPr>
          <a:xfrm>
            <a:off x="3851280" y="2349360"/>
            <a:ext cx="4897440" cy="38754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5"/>
          <p:cNvSpPr/>
          <p:nvPr/>
        </p:nvSpPr>
        <p:spPr>
          <a:xfrm>
            <a:off x="771480" y="551664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essenger boy &am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estern Un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제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주변의 간단한 기술적 인공물을 하나 골라 그에 내장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즉 그것을 만든 기술자가 고려한 지식을 추측하여 명세해보자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역사 또는 주변에서 과학과 기술의 경계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경계공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경계인의 사례를 찾아 그 또는 그것이 과학과 기술에 기여한 방식을 설명하시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지식으로서의 기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과학 지식으로부터 도출되지 않는 기술 지식 존재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요구조건과 기술적 명세에 대한 지식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비행의 질은 무엇으로 구성되는가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각 요구조건을 최대로 구현하는 효율적인 방법에 대한 지식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비행기의 안정성을 높이기 위해 날개는 어떤 형태여야 하는가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각종 실용적 고려에 대한 지식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계기판은 어떤 형태와 배치가 조종사에게 가장 좋은가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다양한 요구조건을 절충하여 최적화된 디자인을 하는 능력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항력은 높이면서 저항은 줄이는 적절한 디자인은 무엇인가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공학자는 바로 이러한 종류의 지식을 갖춘 전문가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high performance, maximum efficiency, optimization(satisficing), design kwowledge 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적 지식은 왜 저평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많은 부분 암묵적 지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정한 솜씨나 방법은 말로 전수 어려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E.g.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자전거 타기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뻑뻑한 자물쇠 열기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8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기 선구적 운하 엔지니어 브린들리는 문맹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일반화되지 않는 개별적 사례에 기반한 지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럴 땐 이렇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저럴 땐 저렇게 하면 된다는 지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지만 일반화하여 공식화하기 어려운 경우 많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명제적 형태가 아닌 절차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각적 형태의 지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설계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조립도의 형태의 지식은 참 거짓이 아닌 절차에 관한 요약에 가까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여러 용도의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여러 도끼 형태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그림 3" descr="IMG_8913.JPG"/>
          <p:cNvPicPr/>
          <p:nvPr/>
        </p:nvPicPr>
        <p:blipFill>
          <a:blip r:embed="rId1"/>
          <a:stretch/>
        </p:blipFill>
        <p:spPr>
          <a:xfrm>
            <a:off x="4284720" y="1197000"/>
            <a:ext cx="439092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38" name="내용 개체 틀 3" descr="IMG_8926.JPG"/>
          <p:cNvPicPr/>
          <p:nvPr/>
        </p:nvPicPr>
        <p:blipFill>
          <a:blip r:embed="rId2"/>
          <a:stretch/>
        </p:blipFill>
        <p:spPr>
          <a:xfrm>
            <a:off x="642960" y="2000160"/>
            <a:ext cx="5033880" cy="3335400"/>
          </a:xfrm>
          <a:prstGeom prst="rect">
            <a:avLst/>
          </a:prstGeom>
          <a:ln w="0">
            <a:noFill/>
          </a:ln>
        </p:spPr>
      </p:pic>
      <p:pic>
        <p:nvPicPr>
          <p:cNvPr id="239" name="그림 4" descr="IMG_8927.JPG"/>
          <p:cNvPicPr/>
          <p:nvPr/>
        </p:nvPicPr>
        <p:blipFill>
          <a:blip r:embed="rId3"/>
          <a:stretch/>
        </p:blipFill>
        <p:spPr>
          <a:xfrm>
            <a:off x="5929200" y="200016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5"/>
          <p:cNvSpPr/>
          <p:nvPr/>
        </p:nvSpPr>
        <p:spPr>
          <a:xfrm>
            <a:off x="1541160" y="5516640"/>
            <a:ext cx="32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레오나르도 다 빈치의 톱니바퀴 조립도와 분해도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공학 또는 과학적 공학의 경우는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외양상 과학 이론을 기술에 응용한 형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대체로 과학 이론은 실제 기술적 적용에 한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상에 대한 기본 이론은 있지만 대상이 너무 복잡한 경우 또는 대상에 대한 이론이 아예 없는 경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응용 위해서는 과학에 개념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방법적 변형 필요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구조 공학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뉴턴 역학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 stress, strain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등의 개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다양한 기술적 문제 풀이의 예제들 필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예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: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옴의 법칙을 회로의 부하에 걸리는 전압을 증가시키거나 전선에서 소모되는 전력을 줄이는 문제 등을 푸는 데 적용하는 방법에 관한 창의적인 문제 풀이들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공학적 의사소통을 위한 개념들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544500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ift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는 증가시키고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drag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는 줄이는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irfoil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에 대한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pecific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비행의 질을 높이는 조건에 대한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pecification (e.g., negative feedback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에 의한 안정성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, stick force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의 감소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http://www.grc.nasa.gov/WWW/K-12/airplane/Images/geom.gif"/>
          <p:cNvPicPr/>
          <p:nvPr/>
        </p:nvPicPr>
        <p:blipFill>
          <a:blip r:embed="rId1"/>
          <a:stretch/>
        </p:blipFill>
        <p:spPr>
          <a:xfrm>
            <a:off x="755640" y="227664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http://library.thinkquest.org/2819/graphics/forces.jpg"/>
          <p:cNvPicPr/>
          <p:nvPr/>
        </p:nvPicPr>
        <p:blipFill>
          <a:blip r:embed="rId2"/>
          <a:stretch/>
        </p:blipFill>
        <p:spPr>
          <a:xfrm>
            <a:off x="4867200" y="2349360"/>
            <a:ext cx="3881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4:45:26Z</dcterms:created>
  <dc:creator>zolaist</dc:creator>
  <dc:description/>
  <dc:language>en-US</dc:language>
  <cp:lastModifiedBy>moon</cp:lastModifiedBy>
  <dcterms:modified xsi:type="dcterms:W3CDTF">2010-10-08T02:36:41Z</dcterms:modified>
  <cp:revision>49</cp:revision>
  <dc:subject/>
  <dc:title>과학과 기술의 관계</dc:title>
</cp:coreProperties>
</file>